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3CF92BE-3656-42D1-AC88-3FDEE333F1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405-FDB8-40FC-ABE7-601B20CE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353-70AE-4BE5-AADF-22C93277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704-63E2-48D7-810F-CC3A4692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C76-7046-47A2-BFC0-7E7B4133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D9C-00D7-4D9F-9E1F-C79BC8D2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1C9-E890-40D5-A23C-A6B118A9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C54-F1D1-495B-8858-2AF1545E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A56-D06F-4ED7-AADE-57339BE1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22B-70F1-49D1-950E-6BCDC9A6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04A-1D9B-45F6-A9FE-E98AF9CC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639-7D85-4F46-ADE2-0EE8D1E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0F3-6BF6-48D8-BE96-E5DC27B5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5F05-364F-4C31-ADD8-BE9473403B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overty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000 new small enterprises developed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model business incubators operational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quire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aff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icro-credit provision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fram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1 yr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09960" y="990720"/>
            <a:ext cx="1753560" cy="5410080"/>
            <a:chOff x="7509960" y="990720"/>
            <a:chExt cx="175356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3992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5484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28640" y="548640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557840" y="320328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lective Accoun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Institutional/ Behavioural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Operational/ skills, abilities, products &amp;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Human!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mployment and income generation in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titutional/ Behavioural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r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71600" y="25286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71600" y="359532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71600" y="464796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71600" y="15998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1-22T15:13:51Z</dcterms:modified>
  <cp:revision>5</cp:revision>
  <dc:subject/>
  <dc:title>PowerPoint Presentation</dc:title>
</cp:coreProperties>
</file>